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14AA0-F05E-4638-95F2-77F6D754A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80ACD-17C2-438A-9FA7-723ABBC6D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45687-936A-4DB1-9A2E-CE7810F18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6837F-E8F9-4360-8620-52CC6652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CF484-500D-4527-BD63-8FDBEF691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297FD-BF9D-4A5A-94DD-65CA55A4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00817-5BEC-4338-87F3-4859C1F9A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CE290-173F-42FF-84D6-B2ED05F22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0C7FE-515D-4047-AE18-FC613AAD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7E443-1E2F-4F87-ADCD-A0951DD5D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5624-B51D-4388-8AF6-A5B0E252D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B7D63-D69D-448A-830C-31FF7CE9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A3B0-BAFA-4540-AF62-91262CED1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3820E-81CF-4BA8-821A-4A8ECA5B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109E4-D786-4CBC-9667-36FBEBDBA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A1806-70F9-45EF-A6E8-44AB734E7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43F11-1D9F-4C6A-9C61-30F8AEA98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07E69-2015-476E-B783-B10272B250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2C1E1-34D3-441F-8308-13B15E044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4A52C-51DF-4DA5-A987-DCB505AB5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B7C24-DB2F-4175-9298-9059F5CE0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7F5CB-590A-43A1-89FA-47CA912E8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51DA-5CFD-4C00-88CD-FA822DA9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B4E05-ADDD-469F-8B83-A4C90102E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B21E5-82EC-4C19-A2F5-2D0D1B419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F7344-E37A-4324-8521-BEB009E49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9A3B4-8BEA-4B93-A774-88F607670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D132C-565C-4EAD-BA46-69EC26339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1B0F7-E4CE-496C-B066-FF69ED190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06651-D0B6-4003-AFBA-567513467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B38D2-CD45-4087-A8FC-CC3D6364B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B62B9-4E7F-410E-8DF2-7644E2AB4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7A083-9360-42FD-AAE1-F601D8CB5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01481-5626-4F8F-BB09-DEDC38C5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D6135-4EB8-4E53-BF01-D0C0A6C37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DFDEF-ED1F-4480-AB3A-0DA2D7F7D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E0EC9-C83F-4810-AF94-AEEACE15E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5C266-CD27-4232-9B5E-1F4951A71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75921-0A6B-4F57-AF3D-D001772C2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61BEC-5EEB-400D-92D2-58E34F60F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B8D98-BE0D-4B7B-8D2A-3C97DC846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83460-546F-4C19-9AC3-B11321D78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7F439-A703-4656-ABD6-7E6E5E9C6E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CFE18-4547-4DF4-948C-6125004CE6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CD61E-8887-40FE-B2D6-BF823398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87C25-264A-4407-B0D8-4B3BBB62F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BAA61-810E-42D9-B91E-A495D834F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FC060-D907-4899-9CE1-B8AEE5F26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690D2-3166-401D-B355-26448C2A5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D6967-7B11-4F5B-BCAE-1FC5A9D8A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1C229-5DCA-4A1F-B281-9FA8E1172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8C6B9-C414-4AFB-90BB-1357666DB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1E385-6716-4EE5-BA00-81188F452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CC95D-F51B-44EE-9A8E-684BF6F46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C15319-FB4D-4C64-B173-29AA9DEBF0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7E42-ECC2-4CFF-ACF4-119361C5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8F7C9-36C6-4615-9853-24049B1409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BC187-607F-436D-9E19-FAB7DCBFE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68FD3-302F-403E-B0FA-FFAFC7401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161C3-CD65-42D8-A083-A3E269003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B24E6B-A947-486A-B136-1A90AB69C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59F5F9-325C-41F9-9831-5B4A0A6A6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49723-7EF9-4432-BE64-1706BAB92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41E41-9A68-49A9-BF73-35C8C01D5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A0EEB-6F12-4182-B26C-F41FB6AC2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34E00-90B7-4310-B7A5-A5B7CB77E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72F6-50FE-4DF9-894B-414AAD54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645D5-802F-45C5-839A-E389C68A1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45E984-B817-47E7-B157-AEB1BF6CA8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E92B5D-D08F-499E-823A-D9D3B34648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76D7F-135F-48C7-AF7A-168BE1000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2AAB9-3711-4DEF-A292-EE7865D94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503C4-1AA1-4440-8B47-0E5ADC62A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DDD2E-CD96-469A-A25A-88B639ADB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F40DC-97C3-4641-A2DE-4CFABE87A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9FFA1-1B1E-4334-BFF4-F2B1BADB31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81DD3-ABC3-4FCD-804C-FD5BAA3A0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771A-0B6F-4C87-BED0-91E99F9C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9450B-A3A1-4BDE-AD3C-9B8D1EC66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FD73E-814E-45D4-AD5E-563FE76B6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23D20-FEE1-4E7B-8173-1193DE01F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4D95EB-0C4A-4524-81D3-174F1715FB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3A4756-5A84-4A5F-91A2-837F181125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8865D2-D865-4703-B832-A975FB3B94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7B92E-B65E-4075-AD16-FD9304E34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417F65-33F4-4514-9F19-F6F34892A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670DA-96C7-4A64-A2CA-92BA693C6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95D7C6-047A-4A0F-9676-364D90CD4D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6BDB-AB67-42E9-B17E-ABEEB79A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3EE16A-230B-46BA-B050-3AFA85F7B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2FADB-4ADE-470D-9452-451D86DC2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4D3F1-3E44-4A14-BF82-70C4ED771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D859E-76B8-4350-9457-616C09AF8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F4300-910A-432A-AD60-91B7C59DF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9A1809-542C-4279-862B-99BF627B3A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124364-5C64-4283-9355-D8DE11D13F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0900-1EE9-43C1-8D83-2598AA5A87D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0"/>
            <p:cNvGrpSpPr/>
            <p:nvPr/>
          </p:nvGrpSpPr>
          <p:grpSpPr>
            <a:xfrm>
              <a:off x="2520" y="4992120"/>
              <a:ext cx="9141480" cy="1872360"/>
              <a:chOff x="2520" y="4992120"/>
              <a:chExt cx="9141480" cy="1872360"/>
            </a:xfrm>
          </p:grpSpPr>
          <p:pic>
            <p:nvPicPr>
              <p:cNvPr id="52" name="Freeform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BFB2-9F98-4515-BB41-C65444B2347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7728-2E06-4553-87C9-6DE3C2444ED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0FA7-D2C7-4142-A07B-D31FAC5D79F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1B53-6AFB-4469-8BC0-40EB5DC863B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2D2E-0F04-4369-A880-C651D16B5BE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C3C4-6FB5-4369-BF26-B390418EFAD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9"/>
          <p:cNvGrpSpPr/>
          <p:nvPr/>
        </p:nvGrpSpPr>
        <p:grpSpPr>
          <a:xfrm>
            <a:off x="-12600" y="5784840"/>
            <a:ext cx="3414600" cy="1092240"/>
            <a:chOff x="-12600" y="5784840"/>
            <a:chExt cx="3414600" cy="1092240"/>
          </a:xfrm>
        </p:grpSpPr>
        <p:pic>
          <p:nvPicPr>
            <p:cNvPr id="324" name="Right Triangle 9"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2240"/>
            <a:ext cx="3421080" cy="11095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EFCC-F5D8-4FDC-94A4-22403204D728}"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0899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464646"/>
                </a:solidFill>
                <a:latin typeface="Lucida Sans Unicode"/>
              </a:rPr>
              <a:t>ICAD3218A </a:t>
            </a:r>
            <a:r>
              <a:rPr b="1" lang="en-US" sz="2700" spc="-1" strike="noStrike">
                <a:solidFill>
                  <a:srgbClr val="464646"/>
                </a:solidFill>
                <a:latin typeface="Lucida Sans Unicode"/>
              </a:rPr>
              <a:t>Create User Documenta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ome of the software tools used to produce online documentation includ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rontp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Notep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icrosoft Wor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Different forms of documentation are more suitable than others for the level of the intended  user. For example, the forms of documentation most suitable for a novice user would be a Printed handbook</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standards used to create user documentation include Industry standards and/or organisational policies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creating user documentation consider  the users requirements. Computer literacy , Experience with a system or application and Existing work procedur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sign of’ is required, it involves each of the key stakeholders reviewing and approving the documentation.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Online documentation would be considered if a user requires documentation which is convenient, accessible (to many people worldwide), can contain links to other related documents and is easy to maintain and update.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 of on-line documentation include WebPages (HTML), PDF (Portable Document Format), user forums, FAQ (frequently Asked Questions) and Online Help Fil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The 3 levels of users</a:t>
            </a:r>
            <a:r>
              <a:rPr b="1" lang="en-AU" sz="2300" spc="-1" strike="noStrike">
                <a:solidFill>
                  <a:srgbClr val="000000"/>
                </a:solidFill>
                <a:latin typeface="Lucida Sans Unicode"/>
              </a:rPr>
              <a:t> </a:t>
            </a:r>
            <a:r>
              <a:rPr b="0" lang="en-AU" sz="2300" spc="-1" strike="noStrike">
                <a:solidFill>
                  <a:srgbClr val="000000"/>
                </a:solidFill>
                <a:latin typeface="Lucida Sans Unicode"/>
              </a:rPr>
              <a:t>that the publishing world generally recognises novice, intermediate and advanced user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u="sng">
                <a:solidFill>
                  <a:srgbClr val="000000"/>
                </a:solidFill>
                <a:uFillTx/>
                <a:latin typeface="Lucida Sans Unicode"/>
              </a:rPr>
              <a:t>Version contro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Version control is used to ensure that changes are not lost and versions are not confused. This will often be outlined in the user documentation policy. </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Lucida Sans Unicode"/>
              </a:rPr>
              <a:t>Either way, it is critical to establish how you are going to name and number the various versions of your documents and to communicate that process to other writers and reviewers so that everyone is on the same page.</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457200" y="259920"/>
            <a:ext cx="8229600" cy="574668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re are many principles of document design which should be followed when designing user documentation. These include</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ppropriate medium to the task</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Give a brief introduction where you state the purpose and objectives of the documentation.</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table of contents or index.</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writing, keep the users’ needs in mind, ie put yourself in the users’ place.</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Ensure the content is accurate.</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ke clear sections for different types of features/information.</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Break the content down into easy-to-digest ‘chunks’, eg using paragraphs and sub headings, or multiple screens.</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illustrations, diagrams, charts and/or screen shots where appropriate.</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tate instructions clearly and step-by-step.</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plain English and avoid jarg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 technical terms only where necessary.</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troubleshooting or help section.</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clude a glossary of the technical terms you have used.</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ke the document structure as simple as possible and logical by providing cues to locate inform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Ensure good usability, especially for online docu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ross-reference information, eg use hyperlinks in online docu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arnings, comments and help should be well-organised and visibl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im for a clean design for text styles and layout that is consistent across all pag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333360"/>
            <a:ext cx="8229600" cy="567360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Reviewing Proces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is generally outlined in the organisation’s policy or the project documents. </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viewing involves checking over the document.</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varies from organisation to organisation and project to project. The review process is generally outlined in the organisation’s policy or the project document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SO stands for International Standards Organisation</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Quick Reference card is not Online documentation</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Technical writer is responsible for writing the user documentation and submitting it for review.</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eb based documentation includes User forums, Frequently asked questions and HTML files</a:t>
            </a: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404640"/>
            <a:ext cx="8229600" cy="56023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Before starting to create any user documentation ask ‘What is the documentation going to be used for?’. </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you are satisfied that you have an answer, you can then decide what type of documentation you are going to produce. </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When developing documentation it is important to understand the user’s requirements to know which medium is preferable. In a lot of cases both printed and online forms may be require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549360"/>
            <a:ext cx="8229600" cy="54576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a:t>
            </a:r>
            <a:r>
              <a:rPr b="1" lang="en-AU" sz="2700" spc="-1" strike="noStrike">
                <a:solidFill>
                  <a:srgbClr val="000000"/>
                </a:solidFill>
                <a:latin typeface="Lucida Sans Unicode"/>
              </a:rPr>
              <a:t> </a:t>
            </a:r>
            <a:r>
              <a:rPr b="0" lang="en-AU" sz="2700" spc="-1" strike="noStrike">
                <a:solidFill>
                  <a:srgbClr val="000000"/>
                </a:solidFill>
                <a:latin typeface="Lucida Sans Unicode"/>
              </a:rPr>
              <a:t>of User documentation includ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Instructional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raining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Policies or procedures doc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ferenc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FAQ’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po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Help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er manual/gui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Self-paced tutorials and Brochure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404640"/>
            <a:ext cx="8229600" cy="5602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a:t>
            </a:r>
            <a:r>
              <a:rPr b="1" lang="en-AU" sz="2700" spc="-1" strike="noStrike">
                <a:solidFill>
                  <a:srgbClr val="000000"/>
                </a:solidFill>
                <a:latin typeface="Lucida Sans Unicode"/>
              </a:rPr>
              <a:t>needs analysis</a:t>
            </a:r>
            <a:r>
              <a:rPr b="0" lang="en-AU" sz="2700" spc="-1" strike="noStrike">
                <a:solidFill>
                  <a:srgbClr val="000000"/>
                </a:solidFill>
                <a:latin typeface="Lucida Sans Unicode"/>
              </a:rPr>
              <a:t> is a process where the needs of the target groups for the documentation are identified and analysed. This analysis helps to make decisions on what the documentation should contain and what format is most suitable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Once the </a:t>
            </a:r>
            <a:r>
              <a:rPr b="1" lang="en-AU" sz="2700" spc="-1" strike="noStrike">
                <a:solidFill>
                  <a:srgbClr val="000000"/>
                </a:solidFill>
                <a:latin typeface="Lucida Sans Unicode"/>
              </a:rPr>
              <a:t>needs analysis</a:t>
            </a:r>
            <a:r>
              <a:rPr b="0" lang="en-AU" sz="2700" spc="-1" strike="noStrike">
                <a:solidFill>
                  <a:srgbClr val="000000"/>
                </a:solidFill>
                <a:latin typeface="Lucida Sans Unicode"/>
              </a:rPr>
              <a:t> is completed, learn what the intended user requires. Do this by becoming a user so that you become familiar with its features and you are confident in using i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68360" y="404280"/>
            <a:ext cx="8229600" cy="560556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look at:</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functionality — how it wor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work processes surrounding its use — how the system works with organisational processes and procedure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457200" y="333360"/>
            <a:ext cx="8229600" cy="58816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Document Bluepri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Provide the information the authors need to produce the document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is occurs in the </a:t>
            </a:r>
            <a:r>
              <a:rPr b="1" lang="en-AU" sz="2700" spc="-1" strike="noStrike">
                <a:solidFill>
                  <a:srgbClr val="000000"/>
                </a:solidFill>
                <a:latin typeface="Lucida Sans Unicode"/>
              </a:rPr>
              <a:t>Planning</a:t>
            </a:r>
            <a:r>
              <a:rPr b="0" lang="en-AU" sz="2700" spc="-1" strike="noStrike">
                <a:solidFill>
                  <a:srgbClr val="000000"/>
                </a:solidFill>
                <a:latin typeface="Lucida Sans Unicode"/>
              </a:rPr>
              <a:t> stage of the standard documentation proces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individual document specification covers the document’s, Purpose, Audience, Related documents, Media, Production plan (eg. Published internally or externally), Reviewing and testing, Updat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620280"/>
            <a:ext cx="8229600" cy="5040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reating a document library blueprint involves identifying all the pieces of documentation and how they are related, and developing a specification for each known as the </a:t>
            </a:r>
            <a:r>
              <a:rPr b="0" i="1" lang="en-AU" sz="2700" spc="-1" strike="noStrike">
                <a:solidFill>
                  <a:srgbClr val="000000"/>
                </a:solidFill>
                <a:latin typeface="Lucida Sans Unicode"/>
              </a:rPr>
              <a:t>document specific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468360" y="333360"/>
            <a:ext cx="8229600" cy="4525920"/>
          </a:xfrm>
          <a:prstGeom prst="rect">
            <a:avLst/>
          </a:prstGeom>
          <a:noFill/>
          <a:ln w="0">
            <a:noFill/>
          </a:ln>
        </p:spPr>
        <p:txBody>
          <a:bodyPr anchor="t">
            <a:normAutofit fontScale="94000"/>
          </a:bodyPr>
          <a:p>
            <a:pPr marL="586440" indent="-483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Lucida Sans Unicode"/>
              </a:rPr>
              <a:t>Reviewing Process</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is generally outlined in the organisation’s policy or the project documents. </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Reviewing involves checking over the document.</a:t>
            </a: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86440" indent="-483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he review process varies from organisation to organisation and project to project. The review process is generally outlined in the organisation’s policy or the project document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179280" y="115560"/>
            <a:ext cx="8785440" cy="56055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Consider the following factors when identifying the intended user of your docume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evel of computing experienc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experience with the particular system or application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frequency of use with a particular system or application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workplace task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work practices and environment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anguage skill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ultural background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ersonal characteristics such as aptitude, educational background, age, disability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level of confidence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179280" y="260280"/>
            <a:ext cx="8856720" cy="5749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Types of media for producing</a:t>
            </a:r>
            <a:r>
              <a:rPr b="1" lang="en-AU" sz="4100" spc="-1" strike="noStrike">
                <a:solidFill>
                  <a:srgbClr val="464646"/>
                </a:solidFill>
                <a:latin typeface="Lucida Sans Unicode"/>
              </a:rPr>
              <a:t> </a:t>
            </a:r>
            <a:r>
              <a:rPr b="0" lang="en-AU" sz="2700" spc="-1" strike="noStrike">
                <a:solidFill>
                  <a:srgbClr val="000000"/>
                </a:solidFill>
                <a:latin typeface="Lucida Sans Unicode"/>
              </a:rPr>
              <a:t>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Paper documentation (print med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Static on-lin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Lucida Sans Unicode"/>
              </a:rPr>
              <a:t>Dynamic on-line docum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template is a file that contains a standard layout, styles and fonts that are used in the production of the document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Using a template ensures there is a consistent look and feel to all of the user documentation. It saves tim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4:21:05Z</dcterms:created>
  <dc:creator> </dc:creator>
  <dc:description/>
  <dc:language>en-US</dc:language>
  <cp:lastModifiedBy>jo</cp:lastModifiedBy>
  <dcterms:modified xsi:type="dcterms:W3CDTF">2008-08-27T12:31:11Z</dcterms:modified>
  <cp:revision>89</cp:revision>
  <dc:subject/>
  <dc:title>Revision</dc:title>
</cp:coreProperties>
</file>